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C2E5-F32B-4ECC-8E51-212C1990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4DB8-1D28-405B-9FE9-7C975C45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68B7-0862-4BF4-990A-7B0BC8B06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89EC-B090-4B32-877F-6D99402BE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5567-3431-4BF0-AD1E-9CA86D76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7948-A996-4265-B89A-ED1E72C3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15BB-1FE6-4004-8310-20C09D5E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83C6-CB60-4D91-9E8E-F37D21AD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E275-B58C-44F4-AD43-5ECED1F9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C759-8552-4B75-9BB1-B3F9F3AE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21BE-7F10-4C76-8FA5-3872A091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1B9A-E8E6-4035-9F53-B9514357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B4AE-9728-489B-B992-F747EF8A1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1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3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1981080" y="-314280"/>
            <a:ext cx="5105520" cy="3514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1981080" y="3176640"/>
            <a:ext cx="4953240" cy="4062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4"/>
          <a:stretch/>
        </p:blipFill>
        <p:spPr>
          <a:xfrm>
            <a:off x="0" y="0"/>
            <a:ext cx="2133720" cy="1298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5"/>
          <a:stretch/>
        </p:blipFill>
        <p:spPr>
          <a:xfrm>
            <a:off x="1981080" y="-380880"/>
            <a:ext cx="4876920" cy="1218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6"/>
          <a:stretch/>
        </p:blipFill>
        <p:spPr>
          <a:xfrm>
            <a:off x="2133720" y="0"/>
            <a:ext cx="1390680" cy="533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7"/>
          <a:stretch/>
        </p:blipFill>
        <p:spPr>
          <a:xfrm>
            <a:off x="3733920" y="76320"/>
            <a:ext cx="3178080" cy="1066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8"/>
          <a:stretch/>
        </p:blipFill>
        <p:spPr>
          <a:xfrm>
            <a:off x="1371600" y="6553080"/>
            <a:ext cx="6019920" cy="609840"/>
          </a:xfrm>
          <a:prstGeom prst="rect">
            <a:avLst/>
          </a:prstGeom>
          <a:ln w="0">
            <a:noFill/>
          </a:ln>
        </p:spPr>
      </p:pic>
      <p:pic>
        <p:nvPicPr>
          <p:cNvPr id="49" name="~PP2122.WAV" descr=""/>
          <p:cNvPicPr/>
          <p:nvPr/>
        </p:nvPicPr>
        <p:blipFill>
          <a:blip r:embed="rId9"/>
          <a:stretch/>
        </p:blipFill>
        <p:spPr>
          <a:xfrm>
            <a:off x="8717040" y="6431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1523880" y="685800"/>
            <a:ext cx="6413760" cy="601992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2666880" y="152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haler Tip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~PP2011.WAV" descr=""/>
          <p:cNvPicPr/>
          <p:nvPr/>
        </p:nvPicPr>
        <p:blipFill>
          <a:blip r:embed="rId3"/>
          <a:stretch/>
        </p:blipFill>
        <p:spPr>
          <a:xfrm>
            <a:off x="8717040" y="6431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2:38:26Z</dcterms:created>
  <dc:creator>Jamie</dc:creator>
  <dc:description/>
  <dc:language>en-US</dc:language>
  <cp:lastModifiedBy>Jamie</cp:lastModifiedBy>
  <dcterms:modified xsi:type="dcterms:W3CDTF">2007-11-28T04:00:15Z</dcterms:modified>
  <cp:revision>9</cp:revision>
  <dc:subject/>
  <dc:title>Slide 1</dc:title>
</cp:coreProperties>
</file>